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5D33-2A13-4739-92BD-94A81175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5D6-BD73-480C-8717-9FDB207C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E1A-5D3D-416D-AE68-48B9A53D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3EB-3E61-41D1-B6E0-F63A1A78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0F9-7D45-4E2E-83C3-280ECC2F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EEB1-A43C-4E61-BD9B-1AAD90E9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AA8-A8D3-49F1-AEDB-938E54F6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A154-8298-4E17-97A9-3E2DF5E9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89FB-2C0D-43B3-A2FA-A6E9AEB8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2DD-595B-4974-AF8E-F26F9E77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65A-4FC2-481F-BE84-D394AC49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8B60-860D-467A-BB57-D097F26D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CF69-E2CB-4F92-B36B-E4F4542B5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3276720"/>
            <a:ext cx="8839080" cy="2895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4234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00cc99"/>
                    </a:gs>
                    <a:gs pos="100000">
                      <a:srgbClr val="33cc33"/>
                    </a:gs>
                  </a:gsLst>
                  <a:lin ang="5400000"/>
                </a:gradFill>
                <a:latin typeface="Comic Sans MS"/>
              </a:rPr>
              <a:t>In Catalonia,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00cc99"/>
                  </a:gs>
                  <a:gs pos="100000">
                    <a:srgbClr val="33cc33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00cc99"/>
                    </a:gs>
                    <a:gs pos="100000">
                      <a:srgbClr val="33cc33"/>
                    </a:gs>
                  </a:gsLst>
                  <a:lin ang="5400000"/>
                </a:gradFill>
                <a:latin typeface="Comic Sans MS"/>
              </a:rPr>
              <a:t>we celebrate Carnival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00cc99"/>
                  </a:gs>
                  <a:gs pos="100000">
                    <a:srgbClr val="33cc33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00cc99"/>
                    </a:gs>
                    <a:gs pos="100000">
                      <a:srgbClr val="33cc33"/>
                    </a:gs>
                  </a:gsLst>
                  <a:lin ang="5400000"/>
                </a:gradFill>
                <a:latin typeface="Comic Sans MS"/>
              </a:rPr>
              <a:t>just one day!!!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00cc99"/>
                  </a:gs>
                  <a:gs pos="100000">
                    <a:srgbClr val="33cc33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00cc99"/>
                    </a:gs>
                    <a:gs pos="100000">
                      <a:srgbClr val="33cc33"/>
                    </a:gs>
                  </a:gsLst>
                  <a:lin ang="5400000"/>
                </a:gradFill>
                <a:latin typeface="Comic Sans MS"/>
              </a:rPr>
              <a:t>This year it was in February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00cc99"/>
                  </a:gs>
                  <a:gs pos="100000">
                    <a:srgbClr val="33cc33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00cc99"/>
                    </a:gs>
                    <a:gs pos="100000">
                      <a:srgbClr val="33cc33"/>
                    </a:gs>
                  </a:gsLst>
                  <a:lin ang="5400000"/>
                </a:gradFill>
                <a:latin typeface="Comic Sans MS"/>
              </a:rPr>
              <a:t>in all villag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00cc99"/>
                  </a:gs>
                  <a:gs pos="100000">
                    <a:srgbClr val="33cc33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214720" cy="1658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209680" cy="1663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4760" y="658800"/>
            <a:ext cx="20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he bigg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tudents, we did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ashion show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0720" y="60948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t was grea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09480" y="838080"/>
            <a:ext cx="2078280" cy="2760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09480" y="4191120"/>
            <a:ext cx="2214720" cy="1668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352680" y="4038480"/>
            <a:ext cx="2341800" cy="1766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2895480" y="1676520"/>
            <a:ext cx="1658880" cy="2214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4648320" y="1295280"/>
            <a:ext cx="165888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29000" y="4343400"/>
            <a:ext cx="2760840" cy="2077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2760840" cy="2078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248520" y="304920"/>
            <a:ext cx="2760480" cy="2077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657600" y="304920"/>
            <a:ext cx="2244600" cy="1687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838080" y="3276720"/>
            <a:ext cx="2068560" cy="2760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3809880" y="2362320"/>
            <a:ext cx="2214720" cy="1668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6477120" y="3048120"/>
            <a:ext cx="2214360" cy="29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92200" y="110808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t was a nice day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1840" y="60948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e w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ou were here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80060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riend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324480" y="4724280"/>
            <a:ext cx="221472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248520" y="1981080"/>
            <a:ext cx="2214360" cy="1668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733920" y="2209680"/>
            <a:ext cx="1463400" cy="193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505320" y="4648320"/>
            <a:ext cx="1238040" cy="1658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762120" y="4584600"/>
            <a:ext cx="2057400" cy="1554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581280" y="457200"/>
            <a:ext cx="1873440" cy="1405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838080" y="2209680"/>
            <a:ext cx="2106720" cy="15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3915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lso we celebrate carnival in school the Friday befo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08440" y="461340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ip R.Macip - D. Gran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562720" y="5181480"/>
            <a:ext cx="1684080" cy="4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ur school party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286000"/>
            <a:ext cx="611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achers and pupil went to school with carnival dress clothes just the Friday afternoon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3080" y="426708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d we had lot of fun all together :-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78240" y="563868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ok at these pi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ome teache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4419720"/>
            <a:ext cx="2224080" cy="1668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666880" cy="199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1658880" cy="2214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086600" y="457200"/>
            <a:ext cx="1386000" cy="3316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6781680" y="3962520"/>
            <a:ext cx="1658880" cy="221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3352680" y="17524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nd now some students,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First the youngest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2214360" cy="1658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819520" y="4114800"/>
            <a:ext cx="2214360" cy="1658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181480" y="4114800"/>
            <a:ext cx="2214720" cy="165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80880" y="2057400"/>
            <a:ext cx="2214720" cy="1658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819520" y="2057400"/>
            <a:ext cx="2214360" cy="1658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5257800" y="2133720"/>
            <a:ext cx="2214720" cy="16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2214720" cy="1658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895480" y="4343400"/>
            <a:ext cx="2291040" cy="1716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971800" y="2057400"/>
            <a:ext cx="2214720" cy="1658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562720" y="2057400"/>
            <a:ext cx="2214360" cy="1658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638680" y="4343400"/>
            <a:ext cx="2214720" cy="1658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380880" y="4343400"/>
            <a:ext cx="2286000" cy="1712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6960" y="38088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ents were outdoor looking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nd now the primary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2214720" cy="1658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19920" y="1905120"/>
            <a:ext cx="2214360" cy="1658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2214720" cy="1658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10280" y="121932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irst of all,…,  our team :-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477120" y="3962520"/>
            <a:ext cx="1658880" cy="2214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3429000" y="4495680"/>
            <a:ext cx="1981080" cy="1482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3124080" y="2209680"/>
            <a:ext cx="1981440" cy="14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95480" y="4876920"/>
            <a:ext cx="2214720" cy="1658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80880" y="4800600"/>
            <a:ext cx="2210040" cy="1663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867280" y="4971960"/>
            <a:ext cx="2133720" cy="1606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914400" y="762120"/>
            <a:ext cx="2209680" cy="1660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886200" y="685800"/>
            <a:ext cx="1386000" cy="1844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3429000" y="2743200"/>
            <a:ext cx="1430280" cy="1909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457200" y="2895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5334120" y="2666880"/>
            <a:ext cx="1493640" cy="1981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6248520" y="609480"/>
            <a:ext cx="1454040" cy="19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230880" y="4222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e had lot of fu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2273400" cy="3043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00400" y="1392120"/>
            <a:ext cx="2590920" cy="1952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095880" y="1420920"/>
            <a:ext cx="2514600" cy="1893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400800" y="4419720"/>
            <a:ext cx="2214720" cy="1668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581280" y="4419720"/>
            <a:ext cx="2214720" cy="1668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685800" y="4267080"/>
            <a:ext cx="2214720" cy="1668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8:25:53Z</dcterms:created>
  <dc:creator>Victor</dc:creator>
  <dc:description/>
  <dc:language>en-US</dc:language>
  <cp:lastModifiedBy>Cristina</cp:lastModifiedBy>
  <dcterms:modified xsi:type="dcterms:W3CDTF">2012-05-14T17:55:38Z</dcterms:modified>
  <cp:revision>40</cp:revision>
  <dc:subject/>
  <dc:title>Presentación de PowerPoint</dc:title>
</cp:coreProperties>
</file>